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9B7A-31EB-41D7-BB50-0C53BDA72F2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й 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тодология создания психологического портрета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Психологический портрет можно создать по 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сылки практической мудр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8B5F-3802-4F56-A8A7-70FEC2C0A9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казаться от риска - значит отказаться от творчества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А. С. Макар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мотрят все, а видят немно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арел Чапек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меняются только самые мудрые, и самые глупые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Жалеть о сказанном мне приходилось, о несказанном никог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сен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389C-7E42-4EF6-830E-987B7814CAF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ология создания психологического портр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cc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7030-E4BE-4CD4-86CE-576BDE50F59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кажи мне свой автомобиль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я скажу: кто 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Размер и цв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Calibri"/>
              </a:rPr>
              <a:t>Красн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указывает на инстинктивность натуры, желание двигаться, заявить о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ранже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ксуальной энергии и стремления к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солнца. Владелец желтого авто - человек солн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Calibri"/>
              </a:rPr>
              <a:t>Зеленый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рдечности, теплоты, споко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ccff"/>
                </a:solidFill>
                <a:latin typeface="Calibri"/>
              </a:rPr>
              <a:t>Голуб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выбирают люди любящие или желающие поговорить и пообщ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99ff"/>
                </a:solidFill>
                <a:latin typeface="Calibri"/>
              </a:rPr>
              <a:t>С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99"/>
                </a:solidFill>
                <a:latin typeface="Calibri"/>
              </a:rPr>
              <a:t>Фиолетовый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итают люди творческие, достаточно утонч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л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80808"/>
                </a:solidFill>
                <a:latin typeface="Calibri"/>
              </a:rPr>
              <a:t>Черный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b2b2b2"/>
                </a:solidFill>
                <a:latin typeface="Calibri"/>
              </a:rPr>
              <a:t>серый</a:t>
            </a:r>
            <a:r>
              <a:rPr b="1" lang="ru-RU" sz="1200" spc="-1" strike="noStrike">
                <a:solidFill>
                  <a:srgbClr val="b2b2b2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E086-7234-42A8-BA49-4DEF388782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какой кофе ты предпочитаешь, и я скажу какой твой характ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без сах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ильный характер, ты не боишься ответственности и не стесняешься своих оши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с сахаро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пен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творимый коф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предпочитаешь кратчайший путь ко всему и в жизни и считаешь себя преуспеваю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добавлением молока и сах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без кофеин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4C3D-A7AE-4A9C-B7B7-7D04C05E8B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Вы спи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живот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едовольны, как правило, своей професс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спин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сильные личности и вдобавок вполне удовлетворены своим образом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тот, кто спит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, согнувшись или прижав к себе подушк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склонен к тоскливым настроениям и нуждается в неж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мрачные пессимисты чаще других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укрываются одеялом с голово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0798-A5EF-4CBB-835D-8DBFF005FA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й портрет можн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по ... конфе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омантики предпочитают клубничную начи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ди решительные и резкие выбирают конфеты с вишней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Застенчивые любят конфеты с фунду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Если вы предпочитаете начинку из кокосовой стружки, в вас есть творческая жил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ыбор конфеты с мятной начинкой означает, что ваше воображение чрезвычайно бога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A8AE-5A37-4E9C-A5A0-D562B8521E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где у тебя родинка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Убийца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личественная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менчи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актична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6952-CBBB-42D2-A2D8-79C0365F25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можно узнать о человеке по его улыб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 смехе вы обычно касаетесь мизинцем своих гу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крываете при смехе рот ру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Часто при смехе запрокидываете голов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меетесь громко, с раскрытым рт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Держитесь при смехе за подбород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0B2D-4569-41CC-B9DB-878884C2D9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ессиональная непригодность - отсутствие чуткости и бестак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Визитная карточка руководителя - умение расположить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работе, ориентированной на людей, есть только один ключ к успеху - ДОВЕ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гда невозможно уже работать напряженнее, начни работать ум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Мы все чувствительны к комплимен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А. Линколь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 день надо смотреть, как на маленькую жизнь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А. 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2712-BD94-4201-881E-A311D30F00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167A-A7F1-4FCD-9783-54C4A09B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8A1-0CC8-4A4D-8F3B-30F60187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8F0-187A-421C-9ADD-7C3196F7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B8F-5129-4959-92CE-C2432544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D9C2-CC64-4FB0-A674-5AB51907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8191-0CD6-467D-8298-42587D4E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F84F-6945-45AE-BBAF-CA49C137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3E97-89D0-49C9-A22C-214FA660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5405-C30A-4B10-AE0E-B054CB75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50E5-D855-4C0B-A6D4-23B0FBC1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772B-3EF5-4F60-A7B8-F014D7F2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F29D-DE92-48EC-8A40-851D1A54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A2FE-ED29-4805-8D6D-94DDBC86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F408-EAB2-420D-9D2E-77069403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5414-52CA-42EE-A84C-ABD8BE52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EB5C-CE86-4C73-9703-7F31971F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EEE2-5134-4A9A-9204-FA166E53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7BC-7634-491C-87C4-A6176CF5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65C-99C6-4DA2-97CE-D49F4652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082-3603-42FD-89D4-A92BBA11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57B-7FEC-448A-8546-FBEEEA99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FA7-E4EF-4107-BFE0-60D3CC92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0CD-2EAF-41F8-A7EC-42DBB62A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D15-B2F5-46AA-8D5F-BD8C1A2C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AF47-A81C-437D-945D-4BDFC1AB6C0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24F7-E0B3-41FB-B5E1-2A70059F32C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сихологический 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Методология создания психологического портрета ли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Tahoma"/>
              </a:rPr>
              <a:t>Психологический портрет можно создать по 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ссылки практической мудр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6" descr="28"/>
          <p:cNvPicPr/>
          <p:nvPr/>
        </p:nvPicPr>
        <p:blipFill>
          <a:blip r:embed="rId1"/>
          <a:stretch/>
        </p:blipFill>
        <p:spPr>
          <a:xfrm>
            <a:off x="5076720" y="2262240"/>
            <a:ext cx="3849840" cy="29941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12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тказаться от риска - значит отказаться от творчества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А. С. Макарен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мотрят все, а видят немног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арел Чапек, писа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 меняются только самые мудрые, и самые глупые. </a:t>
            </a:r>
            <a:r>
              <a:rPr b="1" i="1" lang="ru-RU" sz="2000" spc="-1" strike="noStrike">
                <a:solidFill>
                  <a:srgbClr val="ff9900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Жалеть о сказанном мне приходилось, о несказанном никог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сенокр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273"/>
          <p:cNvPicPr/>
          <p:nvPr/>
        </p:nvPicPr>
        <p:blipFill>
          <a:blip r:embed="rId1"/>
          <a:stretch/>
        </p:blipFill>
        <p:spPr>
          <a:xfrm>
            <a:off x="5757840" y="1989000"/>
            <a:ext cx="2568600" cy="2592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етодология создания психологического портре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ич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кажи мне свой автомобиль,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я скажу: кто ты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змер и цвет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ahoma"/>
              </a:rPr>
              <a:t>Красный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указывает на инстинктивность натуры, желание двигаться, заявить о себ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Оранжев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ксуальной энергии и стремления к н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Желт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солнца. Владелец желтого авто - человек солнечн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Зеленый</a:t>
            </a: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рдечности, теплоты, спокойств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Tahoma"/>
              </a:rPr>
              <a:t>Голуб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ще всего выбирают люди любящие или желающие поговорить и пообщатьс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Tahoma"/>
              </a:rPr>
              <a:t>Сини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99"/>
                </a:solidFill>
                <a:latin typeface="Tahoma"/>
              </a:rPr>
              <a:t>Фиолетовый</a:t>
            </a: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читают люди творческие, достаточно утонченны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ел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Tahoma"/>
              </a:rPr>
              <a:t>Черный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i="1" lang="ru-RU" sz="1800" spc="-1" strike="noStrike">
                <a:solidFill>
                  <a:srgbClr val="b2b2b2"/>
                </a:solidFill>
                <a:latin typeface="Tahoma"/>
              </a:rPr>
              <a:t>серый</a:t>
            </a:r>
            <a:r>
              <a:rPr b="1" lang="ru-RU" sz="18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какой кофе ты предпочитаешь, и я скажу какой твой характер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без сахар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ильный характер, ты не боишься ответственности и не стесняешься своих ошиб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с сахар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пен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Растворимый коф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предпочитаешь кратчайший путь ко всему и в жизни и считаешь себя преуспевающ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добавлением молока и сахар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без кофеин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ак Вы спит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живот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недовольны, как правило, своей профессие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спин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сильные личности и вдобавок вполне удовлетворены своим образом жизн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тот, кто спит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, согнувшись или прижав к себе подушку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, склонен к тоскливым настроениям и нуждается в нежност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мрачные пессимисты чаще других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укрываются одеялом с головой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0" descr="Как Вы спите?"/>
          <p:cNvPicPr/>
          <p:nvPr/>
        </p:nvPicPr>
        <p:blipFill>
          <a:blip r:embed="rId1"/>
          <a:stretch/>
        </p:blipFill>
        <p:spPr>
          <a:xfrm>
            <a:off x="5148360" y="2324160"/>
            <a:ext cx="338436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сихологический портрет можно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здать по ... конфет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Романтики предпочитают клубничную начин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ди решительные и резкие выбирают конфеты с вишней внут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Застенчивые любят конфеты с фундук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Если вы предпочитаете начинку из кокосовой стружки, в вас есть творческая жил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Выбор конфеты с мятной начинкой означает, что ваше воображение чрезвычайно богат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где у тебя родинка..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Убийца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Величественная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Изменчив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актичная</a:t>
            </a: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Что можно узнать о человеке по его улыбк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 смехе вы обычно касаетесь мизинцем своих губ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крываете при смехе рот ру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Часто при смехе запрокидываете голову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Смеетесь громко, с раскрытым рто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Держитесь при смехе за подбородок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рофессиональная непригодность - отсутствие чуткости и бестакт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Визитная карточка руководителя - умение расположить к себ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В работе, ориентированной на людей, есть только один ключ к успеху - ДОВЕР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огда невозможно уже работать напряженнее, начни работать умн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Мы все чувствительны к комплимент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А. Линколь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а день надо смотреть, как на маленькую жизнь. </a:t>
            </a:r>
            <a:r>
              <a:rPr b="1" i="1" lang="ru-RU" sz="2400" spc="-1" strike="noStrike">
                <a:solidFill>
                  <a:srgbClr val="ff9900"/>
                </a:solidFill>
                <a:latin typeface="Tahoma"/>
              </a:rPr>
              <a:t>А. М. Горь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9:13:07Z</dcterms:created>
  <dc:creator>OEM</dc:creator>
  <dc:description/>
  <dc:language>en-US</dc:language>
  <cp:lastModifiedBy>LEGION</cp:lastModifiedBy>
  <dcterms:modified xsi:type="dcterms:W3CDTF">2014-11-12T11:31:35Z</dcterms:modified>
  <cp:revision>7</cp:revision>
  <dc:subject/>
  <dc:title>Покажи мне свой автомобиль, и я скажу: кто 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